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8.png" ContentType="image/png"/>
  <Override PartName="/ppt/media/image27.wmf" ContentType="image/x-wmf"/>
  <Override PartName="/ppt/media/image16.jpeg" ContentType="image/jpeg"/>
  <Override PartName="/ppt/media/image21.jpeg" ContentType="image/jpeg"/>
  <Override PartName="/ppt/media/camera.wav" ContentType="audio/x-wav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4ED6-53E1-4550-AB6D-048A512A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37C8-73B3-47FA-89C7-EC66B649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7DE-6F59-4B0F-83D0-BA9D46DB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E372-DA87-47BE-B065-5296E7EA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591-B1A8-44DB-9CFB-637570D9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C0E6-C85D-4899-9922-B95F2CF4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E840-13B2-4E6A-AAD1-F8050C75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4797-8434-4CEF-941A-E2610E31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4FA-63CB-4856-87C9-341FFAB0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8D7-4C70-459C-B419-8A617104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3E1-F087-466A-9919-EE3A6651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8C4E-CC30-494A-AB41-5B9A3B29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407F-3CDF-4CA7-BBF6-057D22CDA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gif"/><Relationship Id="rId11" Type="http://schemas.openxmlformats.org/officeDocument/2006/relationships/hyperlink" Target="http://www.pbase.com/digitales/spanje" TargetMode="External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8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8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j0388386.wav" TargetMode="External"/><Relationship Id="rId3" Type="http://schemas.microsoft.com/office/2007/relationships/media" Target="file:///tmp/home/.config/libreoffice/4/user/gallery/j0388386.wav" TargetMode="External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8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48360" y="3933720"/>
            <a:ext cx="1871640" cy="1249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1800000" cy="1257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salchichas al vino"/>
          <p:cNvPicPr/>
          <p:nvPr/>
        </p:nvPicPr>
        <p:blipFill>
          <a:blip r:embed="rId3"/>
          <a:stretch/>
        </p:blipFill>
        <p:spPr>
          <a:xfrm>
            <a:off x="2627280" y="3789360"/>
            <a:ext cx="1716120" cy="1378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24000" y="3860640"/>
            <a:ext cx="208908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804000" y="2060640"/>
            <a:ext cx="1944720" cy="1676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572000" y="2276640"/>
            <a:ext cx="2158920" cy="1315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484360" y="2276640"/>
            <a:ext cx="1873440" cy="1338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68360" y="1989000"/>
            <a:ext cx="1655640" cy="183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804000" y="260280"/>
            <a:ext cx="1763640" cy="1649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859280" y="333360"/>
            <a:ext cx="1428840" cy="1800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Jamon Serano,  Pata Negra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484360" y="62064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>
            <a:off x="324000" y="476280"/>
            <a:ext cx="19429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25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5162760" cy="4519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14600" y="38088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Comic Sans MS"/>
              </a:rPr>
              <a:t>la mantequil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657600" y="990720"/>
            <a:ext cx="3706920" cy="5189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8288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Comic Sans MS"/>
              </a:rPr>
              <a:t>la mi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95280" y="4572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Comic Sans MS"/>
              </a:rPr>
              <a:t>el zumo de naran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Orange Juice ©Jane Phillpot - Xara Xone Featured Artist"/>
          <p:cNvPicPr/>
          <p:nvPr/>
        </p:nvPicPr>
        <p:blipFill>
          <a:blip r:embed="rId1"/>
          <a:stretch/>
        </p:blipFill>
        <p:spPr>
          <a:xfrm>
            <a:off x="2556000" y="1773360"/>
            <a:ext cx="43448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172200" cy="4091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35280" y="457200"/>
            <a:ext cx="464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Comic Sans MS"/>
              </a:rPr>
              <a:t>los cere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5410440" cy="3570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627280" y="620640"/>
            <a:ext cx="453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el café (solo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59280" y="1413000"/>
            <a:ext cx="4552920" cy="4927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52480" y="3049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Comic Sans MS"/>
              </a:rPr>
              <a:t>el café con le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191120" y="533520"/>
            <a:ext cx="3822480" cy="6083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2480" y="251460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Comic Sans MS"/>
              </a:rPr>
              <a:t>El t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5181840" cy="5027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362320" y="30492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El chocol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3427560" cy="4516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43000" y="19051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Comic Sans MS"/>
              </a:rPr>
              <a:t>el agu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016000" cy="1209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411280" y="333360"/>
            <a:ext cx="237672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932360" y="404640"/>
            <a:ext cx="2090880" cy="1451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095960" y="404640"/>
            <a:ext cx="2048040" cy="1536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50920" y="2492280"/>
            <a:ext cx="1857240" cy="1625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2556000" y="2133720"/>
            <a:ext cx="1554120" cy="2174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Orange Juice ©Jane Phillpot - Xara Xone Featured Artist"/>
          <p:cNvPicPr/>
          <p:nvPr/>
        </p:nvPicPr>
        <p:blipFill>
          <a:blip r:embed="rId7"/>
          <a:stretch/>
        </p:blipFill>
        <p:spPr>
          <a:xfrm>
            <a:off x="4356000" y="2349360"/>
            <a:ext cx="2016360" cy="192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6516720" y="2708280"/>
            <a:ext cx="2400120" cy="1590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0" y="4797360"/>
            <a:ext cx="1908000" cy="1559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0"/>
          <a:stretch/>
        </p:blipFill>
        <p:spPr>
          <a:xfrm>
            <a:off x="2050920" y="4724280"/>
            <a:ext cx="1455840" cy="1575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1"/>
          <a:stretch/>
        </p:blipFill>
        <p:spPr>
          <a:xfrm>
            <a:off x="3708360" y="4437000"/>
            <a:ext cx="1370160" cy="217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2"/>
          <a:stretch/>
        </p:blipFill>
        <p:spPr>
          <a:xfrm>
            <a:off x="5292720" y="4653000"/>
            <a:ext cx="1657440" cy="1608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3"/>
          <a:stretch/>
        </p:blipFill>
        <p:spPr>
          <a:xfrm>
            <a:off x="7164360" y="4581360"/>
            <a:ext cx="142884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55736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revise basic foo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revise how to use the verb gu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) to learn 13 items you might have for breakf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) To learn how to say what you eat for breakf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) To learn basic ways of using neg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) To say what you eat for breakf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324000" y="476280"/>
            <a:ext cx="3822840" cy="6083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084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1"/>
                </p:tgtEl>
              </p:cMediaNode>
            </p:audio>
            <p:seq>
              <p:cTn id="28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1084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340000" y="-458640"/>
            <a:ext cx="3987720" cy="2392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2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4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3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1084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1084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227640" y="404640"/>
            <a:ext cx="2722680" cy="2382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6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3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084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1084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5715000" cy="3965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80000" y="2781360"/>
            <a:ext cx="316692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8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3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5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626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9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8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7" dur="1084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18"/>
                </p:tgtEl>
              </p:cMediaNode>
            </p:audio>
            <p:seq>
              <p:cTn id="648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649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2" dur="1084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Orange Juice ©Jane Phillpot - Xara Xone Featured Artist"/>
          <p:cNvPicPr/>
          <p:nvPr/>
        </p:nvPicPr>
        <p:blipFill>
          <a:blip r:embed="rId1"/>
          <a:stretch/>
        </p:blipFill>
        <p:spPr>
          <a:xfrm>
            <a:off x="4356000" y="2205000"/>
            <a:ext cx="4345200" cy="4149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851280" y="0"/>
            <a:ext cx="5292720" cy="1484280"/>
          </a:xfrm>
          <a:custGeom>
            <a:avLst/>
            <a:gdLst>
              <a:gd name="textAreaLeft" fmla="*/ 1163880 w 5292720"/>
              <a:gd name="textAreaRight" fmla="*/ 4128840 w 5292720"/>
              <a:gd name="textAreaTop" fmla="*/ 326160 h 1484280"/>
              <a:gd name="textAreaBottom" fmla="*/ 115812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1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59280" y="3933720"/>
            <a:ext cx="3168720" cy="2924280"/>
          </a:xfrm>
          <a:prstGeom prst="parallelogram">
            <a:avLst>
              <a:gd name="adj" fmla="val 270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005360"/>
            <a:ext cx="2843280" cy="28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ubL"/>
          <p:cNvSpPr/>
          <p:nvPr/>
        </p:nvSpPr>
        <p:spPr>
          <a:xfrm>
            <a:off x="2843280" y="4005360"/>
            <a:ext cx="2592360" cy="2852640"/>
          </a:xfrm>
          <a:custGeom>
            <a:avLst/>
            <a:gdLst>
              <a:gd name="textAreaLeft" fmla="*/ 0 w 2592360"/>
              <a:gd name="textAreaRight" fmla="*/ 2592360 w 2592360"/>
              <a:gd name="textAreaTop" fmla="*/ 1426320 h 2852640"/>
              <a:gd name="textAreaBottom" fmla="*/ 285300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51280" y="2924280"/>
            <a:ext cx="1800360" cy="280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0800000">
            <a:off x="6227280" y="-360"/>
            <a:ext cx="2916360" cy="3933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588000" y="0"/>
            <a:ext cx="2556000" cy="6858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04000" y="299736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00720" y="1484280"/>
            <a:ext cx="3058920" cy="2448000"/>
          </a:xfrm>
          <a:prstGeom prst="hexagon">
            <a:avLst>
              <a:gd name="adj" fmla="val 31239"/>
              <a:gd name="vf" fmla="val 1154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79640" y="0"/>
            <a:ext cx="3744720" cy="400536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3995640" cy="400536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0" y="0"/>
            <a:ext cx="3851280" cy="2060640"/>
          </a:xfrm>
          <a:prstGeom prst="triangle">
            <a:avLst>
              <a:gd name="adj" fmla="val 5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148360" y="47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8036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6920" y="20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19640" y="162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5164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930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16000" y="50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5928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4036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9567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19280" y="62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7020000" y="6080040"/>
            <a:ext cx="900000" cy="588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484360" y="2708280"/>
            <a:ext cx="31672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4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8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0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0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71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9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720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729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7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738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746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4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755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8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3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764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7" dur="1084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8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769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2" dur="1084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2349360"/>
            <a:ext cx="504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Nunca desayu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No me gusta desayu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835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¿Qué comes para el desayu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(What do you eat for breakfa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341360"/>
            <a:ext cx="79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Normalmente desayun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I normally eat… for breakf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43280" y="2349360"/>
            <a:ext cx="40341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Comic Sans MS"/>
              </a:rPr>
              <a:t>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Comic Sans MS"/>
              </a:rPr>
              <a:t>I never eat break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Comic Sans MS"/>
              </a:rPr>
              <a:t>I don’t like having break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7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258920" y="1844640"/>
            <a:ext cx="7056360" cy="33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T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Copia el vocabul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Escribe una descripción de lo que comes para el desay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Practica con una pareja como pronuncia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2349360"/>
            <a:ext cx="504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Nunca desayu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No me gusta desayu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835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¿Qué comes para el desayu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(What do you eat for breakfa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341360"/>
            <a:ext cx="79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Normalmente desayun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I normally eat… for breakf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2349360"/>
            <a:ext cx="40341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Comic Sans MS"/>
              </a:rPr>
              <a:t>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Comic Sans MS"/>
              </a:rPr>
              <a:t>I never eat break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Comic Sans MS"/>
              </a:rPr>
              <a:t>I don’t like having break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718080"/>
            <a:ext cx="89647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el bacón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- bacon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el café con leche – white cof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el té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- tea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el zumo de naranja – orange ju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el huevo cocido – boiled egg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el agua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-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el huevo frito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- fried egg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la tostada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-to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el chocolate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- hot chocolate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con mantequilla – with bu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el café solo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- black coffee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con miel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- with h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los cereales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- cere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7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6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desayu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 / 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016000" cy="12096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411280" y="333360"/>
            <a:ext cx="2376720" cy="1447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4932360" y="404640"/>
            <a:ext cx="2090880" cy="1451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7095960" y="404640"/>
            <a:ext cx="2048040" cy="15368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250920" y="2492280"/>
            <a:ext cx="1857240" cy="1625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2556000" y="2133720"/>
            <a:ext cx="1554120" cy="21747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Orange Juice ©Jane Phillpot - Xara Xone Featured Artist"/>
          <p:cNvPicPr/>
          <p:nvPr/>
        </p:nvPicPr>
        <p:blipFill>
          <a:blip r:embed="rId7"/>
          <a:stretch/>
        </p:blipFill>
        <p:spPr>
          <a:xfrm>
            <a:off x="4356000" y="2349360"/>
            <a:ext cx="2016360" cy="1925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6516720" y="2708280"/>
            <a:ext cx="2400120" cy="15908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0" y="4797360"/>
            <a:ext cx="1908000" cy="1559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2050920" y="4724280"/>
            <a:ext cx="1455840" cy="1575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1"/>
          <a:stretch/>
        </p:blipFill>
        <p:spPr>
          <a:xfrm>
            <a:off x="3708360" y="4437000"/>
            <a:ext cx="1370160" cy="21798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2"/>
          <a:stretch/>
        </p:blipFill>
        <p:spPr>
          <a:xfrm>
            <a:off x="5292720" y="4653000"/>
            <a:ext cx="1657440" cy="16081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3"/>
          <a:stretch/>
        </p:blipFill>
        <p:spPr>
          <a:xfrm>
            <a:off x="7164360" y="4581360"/>
            <a:ext cx="142884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0"/>
            <a:ext cx="8640720" cy="56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gustar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i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i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el / ella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usted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adie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osotros / as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osotros / as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ellos / ellas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ustedes ____ gu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leasing to 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765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93080" y="765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1341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93080" y="1341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1844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184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im / 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47640" y="2421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4210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You (pol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2924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4360" y="29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no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56000" y="3500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3500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4076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4005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You (pl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4581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64360" y="4581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8000" y="5157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4360" y="5157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You (pl. po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95008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Gusta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s used when refering to                     plural objects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92720" y="59500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ingular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39640" y="2349360"/>
          <a:ext cx="8209080" cy="3189600"/>
        </p:xfrm>
        <a:graphic>
          <a:graphicData uri="http://schemas.openxmlformats.org/drawingml/2006/table">
            <a:tbl>
              <a:tblPr/>
              <a:tblGrid>
                <a:gridCol w="1941480"/>
                <a:gridCol w="2090880"/>
                <a:gridCol w="2124000"/>
                <a:gridCol w="2052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cha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jeto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y a aprender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 </a:t>
                      </a: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endi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desayu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 / 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684360" y="549360"/>
            <a:ext cx="734364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as cosas vas a aprender ho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24000" y="2060640"/>
            <a:ext cx="4969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El desayu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Comic Sans MS"/>
              </a:rPr>
              <a:t>breakfa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5391000" cy="3235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438280" y="30492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la tost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14600" y="45720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Comic Sans MS"/>
              </a:rPr>
              <a:t>el bac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96736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715000" cy="3965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362320" y="45720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Comic Sans MS"/>
              </a:rPr>
              <a:t>el huevo fri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d2ed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304920"/>
            <a:ext cx="830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Comic Sans MS"/>
              </a:rPr>
              <a:t>El huevo cocido / du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12:51:28Z</dcterms:created>
  <dc:creator>teacher</dc:creator>
  <dc:description/>
  <dc:language>en-US</dc:language>
  <cp:lastModifiedBy>Owner1</cp:lastModifiedBy>
  <dcterms:modified xsi:type="dcterms:W3CDTF">2008-10-22T10:38:45Z</dcterms:modified>
  <cp:revision>5</cp:revision>
  <dc:subject/>
  <dc:title>PowerPoint Presentation</dc:title>
</cp:coreProperties>
</file>